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FDD-5256-4BCC-8F90-F9DF7C79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DD5-D19F-47A0-917C-289196E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0547-CC69-4B52-A92B-39623101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60C-DF0A-4343-AE12-AAE845D9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6FD-F680-453C-9CBB-595214CE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C0D-800E-43E3-825A-6A90F46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7EC-AD7C-4C75-8A55-34700FF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09C-48F7-4FBF-91E5-2C65C784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742F-3025-4286-9648-97F9044A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C97-43FE-432A-B62A-7A42B27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BB1-BD7A-4E9D-9753-B68FFD7F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36D6-3576-441B-88AC-DC98BEE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E194-D5A0-4268-A917-CBC4FA42B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GCBOE</cp:lastModifiedBy>
  <dcterms:modified xsi:type="dcterms:W3CDTF">2003-04-03T15:19:26Z</dcterms:modified>
  <cp:revision>36</cp:revision>
  <dc:subject/>
  <dc:title>No Slide Title</dc:title>
</cp:coreProperties>
</file>